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E14E-7DE5-4524-A6C6-2697507A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AD6C-ECA8-4463-9220-76F92D21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700E-00F6-49AB-B568-C154562F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B5A7-AD28-40BA-B8C1-5242756B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1FF-CDB5-4A4D-B645-81D287A0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707E-7A8B-4420-8FA3-1742B281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BC9E-1BF8-4181-9BD4-FC5074F8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205-1DAB-4FF4-833F-CEF3C16D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45A9-E131-46C2-B73D-1D62728F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5D6F-9C7F-49C1-A6EF-DF3450A5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C2D-84A5-4DF8-9E11-F83C6AA8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B608-3ACC-4413-914B-93A24834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23D0-E588-4F57-AA0A-DD821DF97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4:49:41Z</dcterms:created>
  <dc:creator>abeason</dc:creator>
  <dc:description/>
  <dc:language>en-US</dc:language>
  <cp:lastModifiedBy>abeason</cp:lastModifiedBy>
  <dcterms:modified xsi:type="dcterms:W3CDTF">2010-03-10T14:49:46Z</dcterms:modified>
  <cp:revision>1</cp:revision>
  <dc:subject/>
  <dc:title>Slide 1</dc:title>
</cp:coreProperties>
</file>